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5B77-D47E-4D0F-8444-917E49F3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031D-A770-46B2-87DA-F3166496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555C-882E-4DB9-B39B-1A0EB8CD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F254-A590-4152-B22C-91F06924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C3EF-59FA-4F35-BD35-150BA4C4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8860-5C45-4075-8ADE-12D3A1D8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6E66-02D7-40EE-9C84-D3B6DC98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DFFA-076F-4FEB-BC0C-D35E627B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5A35-7402-40AF-B11D-8704A082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C44B-6D7C-45C4-B741-D8A45FA3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FA30-07F4-4620-9C4A-42F8327A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AD75-9FE5-42F9-8BCD-DACB3FB1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58EA-CF4F-4652-8316-D3F0A960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C185-8F64-4FA5-8E43-65C525AA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0502-ED5C-4A44-B9D7-1232B3FE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C02E-A5EA-4021-A742-4C5ED978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3622-011A-472E-BA96-98725EF7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B902-3D96-491E-AC09-2EADFD91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1C0D-0D9C-40F8-A220-F5517FC9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1385-39BD-467B-A976-4BA015F9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8C56-A1FA-42D3-B55A-7AF923C0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41C7-2E08-4529-9932-FD0C2EF8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ABBF-5D83-448C-AEC8-4A112616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5C27-E983-4406-B6AC-9767D59C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F856-20AE-480A-BB82-9C6DACB8AA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3B92-A92E-4EEB-9F1D-08079AAF6E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dfdef6"/>
                </a:solidFill>
                <a:latin typeface="Arial"/>
              </a:rPr>
              <a:t>Redoxrektionen und Oxidationszahle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n Rike und Le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Überblic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lärung allgemeiner Begrif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xi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eduk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edoxreak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xidationsza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ederhol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ufgab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che Ladung haben Proton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e 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che Ladung haben Elektron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e 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sagt die Hauptgruppe über ein Atom a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e viele Elektronen sich in der äußerst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enz befin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ist Elektronegativitä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igt, mit welcher Kraft ein Atom Elektron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sich binden kan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Begriffserklärung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Wie ist die EN von Aluminium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1,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Was ist eine Elektronenpaarbindung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indung, bei der sich mehrere Atome ein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lektronenpaar/mehrere Elektronenpaare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teil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N-Differenz ist kleiner als 1,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eispiel: H2O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Was ist eine Ionenbindung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indung, bei der die EN-Differenz zwischen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en beteiligten Atomen größer als 1,5 i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eispiel: NaC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Wo im PSE findet man Metall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Oxid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ist eine Oxid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ktion mit Sauerstoff (einfache Defin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bgabe von Elektr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paltung von Wasserstoff (biologische Defin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spiel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+  2e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Reduk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ist eine Reduk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ktion mit Wasserstoff (einfache Defin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ufnahme von Elektr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paltung von Sauerstoff (biologische Defin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ispiel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2e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dfdef6"/>
                </a:solidFill>
                <a:uFillTx/>
                <a:latin typeface="Arial"/>
              </a:rPr>
              <a:t>Redoxreak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as ist eine Redoxreak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fnahme und Abgabe von Elektronen innerhalb einer Reak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xidation und Reduktion sind immer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einander gekoppe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ispiel: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+  2e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Cl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 + 2e-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Wingdings"/>
                <a:ea typeface="Wingdings"/>
              </a:rPr>
              <a:t>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2Cl</a:t>
            </a:r>
            <a:r>
              <a:rPr b="0" lang="de-DE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de-DE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de-DE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de-DE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g + Cl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+  2Cl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Oxidationszah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 Ionenbindungen ist es kein Problem, positive und negative Ladungen zuzuord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 Elektronenpaarbindungen schreibt man das/die Elektron/en dem Atom zu, das die höhere Elektronegativität 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Quell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hemie heute - Sekundarbereich II, Schroedel Verlag, Kapitel 8.2 , S. 1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as große Tafelwerk - interaktiv, Cornelsen, S. 1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ww.wikipedia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14:32:51Z</dcterms:created>
  <dc:creator>Eggert</dc:creator>
  <dc:description/>
  <dc:language>en-US</dc:language>
  <cp:lastModifiedBy>Rike</cp:lastModifiedBy>
  <dcterms:modified xsi:type="dcterms:W3CDTF">2007-02-14T20:20:16Z</dcterms:modified>
  <cp:revision>8</cp:revision>
  <dc:subject/>
  <dc:title>Redoxrektionen und Oxidationszahlen</dc:title>
</cp:coreProperties>
</file>